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95C-A10D-4CC5-889B-F88F32C8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73F-DE3D-422F-BE80-FC1F16F6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68F-D70A-476D-A8A3-F82745D2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315-66A5-4BA9-B429-1C85272C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E88-19D0-4DD9-98DF-5509E20A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A8F-F566-4034-95E8-68ABD60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1E8-C0A7-412C-B09A-D54C9A92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536-EC86-4E41-9084-730B000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08F-1009-4A07-91CB-6D4D7B41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DB6-AF23-4967-8DAF-5FFF0B0A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49DC-CF6F-4BD9-A019-A1EC0E9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6A7-5D20-415B-BC40-901DD037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A60-E30E-4BC0-BF05-B7943359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go y fern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me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m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282760"/>
            <a:ext cx="40384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ias La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5627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55:28Z</dcterms:created>
  <dc:creator>WSFCS Workstation</dc:creator>
  <dc:description/>
  <dc:language>en-US</dc:language>
  <cp:lastModifiedBy>WSFCS Workstation</cp:lastModifiedBy>
  <dcterms:modified xsi:type="dcterms:W3CDTF">2010-04-27T19:00:58Z</dcterms:modified>
  <cp:revision>2</cp:revision>
  <dc:subject/>
  <dc:title>La clase de espanol </dc:title>
</cp:coreProperties>
</file>